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DE7-6B5D-4E4B-BF96-C0DE25ED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AF9-8732-43FC-9284-B877365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7F4-A72B-44E6-ABC8-8A379CD0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05F-E7CE-43C5-A92F-B8F9C2C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4066-F722-4815-9AD8-EE4C542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5373-9AD0-4A6D-8E7B-70B4936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98E-F774-4109-A3AD-8639F1B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8F4D-6241-4329-A0B6-E3BAD3F3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006F-10CD-47D9-A295-C5BC502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C336-D0D6-47A6-BC74-893F5D6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50A-68DE-4173-998C-DBC81B8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5E2-0ECE-44FE-AC50-407EFF4F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EF6-9DB8-4FCB-BFF0-7A28542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101-A05B-4AD7-9C55-FAA5A80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12F5-A608-4283-8318-BDD337C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AA1-AB35-46C3-B4CA-4EC9C1A5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112C-CF54-400F-97AD-8C07A7C3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553-ABBF-4562-BD6D-D3C661E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E73-6DBF-4C7C-8AF4-406A99EB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9A0-A248-4A34-8E07-2DAE007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9EB-DB39-4826-AA3B-52F173C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1F7-1713-4849-A9AA-8B55A18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AE3-F941-48C4-A9AE-52E7291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D08-C454-49D4-8CA2-FCEC5858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3C98-A673-4C2C-B7FF-6D176EDA1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7F6-483F-4497-8B1F-4F69A6279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ottonopolis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wiz.com/napoleon-mm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Bastille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roduction to Romanticis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conomy of Great Brittan changed from agriculturally centered to industry cent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boom in industry led to unsafe working conditions and child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s young as 6 worked in factories for 16 hour shifts with only one 40 minute lunch break. Children were often whipped if they refused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ise in industry eventually lead to the emergence of re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Manchester, England (&quot;Cottonopolis&quot;), pictured in 1840, showing the mass of factory chimney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ictures from 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Little Histo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ticism took place at the end of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as did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French Revo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ecame agitated because taxes were being raised and wages were being dr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lief that people are equal and naturally good made citizens want a government that reflected the will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son, a group of peasants stormed The Bast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Napoleon by Davi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Bastil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tille was a political prison i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soners in had broken no laws, there were there because the king suspected them of dis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July 14, 1789 the prison was stormed and the prisoners were fr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The Bastil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860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Image:Prise de la Bastille.jpg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Reign of Terro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was to eliminate “enemies of the republic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3,000 people were executed by guillot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ad flimsy charges such as a bar owner who was killed for selling sour wine to soldi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51:45Z</dcterms:created>
  <dc:creator>user</dc:creator>
  <dc:description/>
  <dc:language>en-US</dc:language>
  <cp:lastModifiedBy>Center School District</cp:lastModifiedBy>
  <dcterms:modified xsi:type="dcterms:W3CDTF">2007-02-02T19:22:18Z</dcterms:modified>
  <cp:revision>7</cp:revision>
  <dc:subject/>
  <dc:title>Introduction to Romanticism</dc:title>
</cp:coreProperties>
</file>